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applause.wav" ContentType="audio/x-wav"/>
  <Override PartName="/ppt/media/image27.jpeg" ContentType="image/jpeg"/>
  <Override PartName="/ppt/media/image19.jpeg" ContentType="image/jpeg"/>
  <Override PartName="/ppt/media/image8.jpeg" ContentType="image/jpeg"/>
  <Override PartName="/ppt/media/image6.jpeg" ContentType="image/jpeg"/>
  <Override PartName="/ppt/media/image25.gif" ContentType="image/gif"/>
  <Override PartName="/ppt/media/image7.jpeg" ContentType="image/jpeg"/>
  <Override PartName="/ppt/media/image12.jpeg" ContentType="image/jpeg"/>
  <Override PartName="/ppt/media/hammer.wav" ContentType="audio/x-wav"/>
  <Override PartName="/ppt/media/image3.jpeg" ContentType="image/jpeg"/>
  <Override PartName="/ppt/media/drumroll.wav" ContentType="audio/x-wav"/>
  <Override PartName="/ppt/media/image24.jpeg" ContentType="image/jpeg"/>
  <Override PartName="/ppt/media/image11.png" ContentType="image/png"/>
  <Override PartName="/ppt/media/image9.jpeg" ContentType="image/jpeg"/>
  <Override PartName="/ppt/media/image28.jpeg" ContentType="image/jpeg"/>
  <Override PartName="/ppt/media/image23.wmf" ContentType="image/x-wmf"/>
  <Override PartName="/ppt/media/image1.jpeg" ContentType="image/jpeg"/>
  <Override PartName="/ppt/media/image2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FF9-39D8-448C-998E-40C843A4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6E9-0281-40C8-8B76-F7E55372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5A0B-ACAF-4184-AF3F-C4EBC77A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23C-8C9C-40D7-A3AC-2FC4A081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78A-C5D4-4DDC-9FB9-25263B97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6B1-C6F9-4C8E-BFB5-B7EB1F21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042-4DE1-462A-9C95-682499CA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56A-B7FF-4A5D-81F2-B381CED8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F86-D939-478B-9E1F-5AFD687E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AFF-ADEB-42F2-A51D-7881027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4969-7798-46F4-ACFF-F8F5C9B3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0C6-4AB0-4A50-9A4E-4346C66D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EBA6-09C3-4ED8-89EE-CE8801246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3428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76360" y="206064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题一 合理消费 学会理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76500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一单元 养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服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76840" y="3487680"/>
            <a:ext cx="28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库尔勒市第五小学  杨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229" descr=""/>
          <p:cNvPicPr/>
          <p:nvPr/>
        </p:nvPicPr>
        <p:blipFill>
          <a:blip r:embed="rId1"/>
          <a:stretch/>
        </p:blipFill>
        <p:spPr>
          <a:xfrm>
            <a:off x="-6480" y="-2556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303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讨论分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么样才能合理支配零用钱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4176720" cy="3435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76720" y="4294080"/>
            <a:ext cx="3527640" cy="2395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716360" y="2063880"/>
            <a:ext cx="3816360" cy="20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46080" y="1440"/>
            <a:ext cx="9263160" cy="6948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720" y="90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不乱花钱的招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213372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招数一，交学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减轻家长的经济负担，培养自立精神和家庭责任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招数二，献爱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拿出一部分来帮助其他贫困孩子，又能助人为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招数三，表孝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长辈或孤老礼物，养成敬老爱老的美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招数四，初步理财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银行立个帐户，搞教育储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2360" y="333360"/>
            <a:ext cx="35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99ff"/>
                </a:solidFill>
                <a:latin typeface="Arial"/>
              </a:rPr>
              <a:t>老师的建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drumroll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987" descr=""/>
          <p:cNvPicPr/>
          <p:nvPr/>
        </p:nvPicPr>
        <p:blipFill>
          <a:blip r:embed="rId1"/>
          <a:stretch/>
        </p:blipFill>
        <p:spPr>
          <a:xfrm>
            <a:off x="-36360" y="-98280"/>
            <a:ext cx="9215280" cy="6983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理支配零用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341000"/>
            <a:ext cx="62755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应该合理支配零用钱，不应该随便乱花。乱花钱不仅养成了一种坏习惯，也会给家庭增添生活负担。合理支配零用钱，可以减轻父母生活的负担，同时也能使自己体会到家长挣钱的不容易，也使我们养成了勤俭节约的好习惯。希望大家合理支配零用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68720" y="189000"/>
            <a:ext cx="5110200" cy="2520720"/>
          </a:xfrm>
          <a:prstGeom prst="cloudCallout">
            <a:avLst>
              <a:gd name="adj1" fmla="val 28851"/>
              <a:gd name="adj2" fmla="val 7386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1052640"/>
            <a:ext cx="47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如何合理支配零用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9680" y="3886200"/>
            <a:ext cx="342432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2135160" y="3723840"/>
            <a:ext cx="10801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2349360"/>
            <a:ext cx="619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先，树立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正确的消费观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次，学会基本消费管理技能——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记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者，养成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勤俭节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生活作风、人人参与“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小储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55800" y="577800"/>
            <a:ext cx="26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汇总意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19080" y="1440"/>
            <a:ext cx="9163080" cy="6875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幼圆"/>
              </a:rPr>
              <a:t>挣 零 花 钱 去 咯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用星期日的时间，以小队的形式，组织学生自己在家庭，或去社会挣钱。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学生通过在家帮爸爸妈妈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务，体验挣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学生去某个小摊帮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验挣钱的辛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6560" y="5157720"/>
            <a:ext cx="752760" cy="1266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plause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578f57897a5c62b3a5c27233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77120" cy="681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6720" y="189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倡议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909720"/>
            <a:ext cx="658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父母用辛勤的劳动支撑着家的天空，其中的艰辛和期盼，我们还无法完全体会。虽然我们年级还小，还不能为家庭挑起重担，但是，我们可以用自己节俭的习惯，来报答父母的养育之恩。为此，我们发出倡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男女小人 165"/>
          <p:cNvSpPr/>
          <p:nvPr/>
        </p:nvSpPr>
        <p:spPr>
          <a:xfrm>
            <a:off x="396720" y="2997360"/>
            <a:ext cx="1079640" cy="574560"/>
          </a:xfrm>
          <a:custGeom>
            <a:avLst/>
            <a:gdLst/>
            <a:ahLst/>
            <a:rect l="l" t="t" r="r" b="b"/>
            <a:pathLst>
              <a:path w="108" h="81">
                <a:moveTo>
                  <a:pt x="3" y="54"/>
                </a:moveTo>
                <a:cubicBezTo>
                  <a:pt x="9" y="51"/>
                  <a:pt x="15" y="49"/>
                  <a:pt x="21" y="47"/>
                </a:cubicBezTo>
                <a:cubicBezTo>
                  <a:pt x="23" y="45"/>
                  <a:pt x="24" y="44"/>
                  <a:pt x="26" y="43"/>
                </a:cubicBezTo>
                <a:cubicBezTo>
                  <a:pt x="35" y="62"/>
                  <a:pt x="35" y="62"/>
                  <a:pt x="35" y="62"/>
                </a:cubicBezTo>
                <a:cubicBezTo>
                  <a:pt x="43" y="43"/>
                  <a:pt x="43" y="43"/>
                  <a:pt x="43" y="43"/>
                </a:cubicBezTo>
                <a:cubicBezTo>
                  <a:pt x="45" y="44"/>
                  <a:pt x="46" y="46"/>
                  <a:pt x="48" y="47"/>
                </a:cubicBezTo>
                <a:cubicBezTo>
                  <a:pt x="60" y="51"/>
                  <a:pt x="60" y="51"/>
                  <a:pt x="60" y="51"/>
                </a:cubicBezTo>
                <a:cubicBezTo>
                  <a:pt x="60" y="51"/>
                  <a:pt x="61" y="50"/>
                  <a:pt x="61" y="50"/>
                </a:cubicBezTo>
                <a:cubicBezTo>
                  <a:pt x="65" y="48"/>
                  <a:pt x="69" y="47"/>
                  <a:pt x="72" y="46"/>
                </a:cubicBezTo>
                <a:cubicBezTo>
                  <a:pt x="75" y="52"/>
                  <a:pt x="79" y="57"/>
                  <a:pt x="84" y="60"/>
                </a:cubicBezTo>
                <a:cubicBezTo>
                  <a:pt x="89" y="57"/>
                  <a:pt x="93" y="52"/>
                  <a:pt x="96" y="46"/>
                </a:cubicBezTo>
                <a:cubicBezTo>
                  <a:pt x="99" y="47"/>
                  <a:pt x="102" y="48"/>
                  <a:pt x="105" y="48"/>
                </a:cubicBezTo>
                <a:cubicBezTo>
                  <a:pt x="108" y="53"/>
                  <a:pt x="108" y="64"/>
                  <a:pt x="108" y="71"/>
                </a:cubicBezTo>
                <a:cubicBezTo>
                  <a:pt x="70" y="71"/>
                  <a:pt x="70" y="71"/>
                  <a:pt x="70" y="71"/>
                </a:cubicBezTo>
                <a:cubicBezTo>
                  <a:pt x="70" y="74"/>
                  <a:pt x="70" y="77"/>
                  <a:pt x="70" y="81"/>
                </a:cubicBezTo>
                <a:cubicBezTo>
                  <a:pt x="47" y="81"/>
                  <a:pt x="24" y="81"/>
                  <a:pt x="0" y="81"/>
                </a:cubicBezTo>
                <a:cubicBezTo>
                  <a:pt x="0" y="68"/>
                  <a:pt x="1" y="58"/>
                  <a:pt x="3" y="54"/>
                </a:cubicBezTo>
                <a:close/>
                <a:moveTo>
                  <a:pt x="74" y="26"/>
                </a:moveTo>
                <a:cubicBezTo>
                  <a:pt x="79" y="27"/>
                  <a:pt x="89" y="26"/>
                  <a:pt x="94" y="24"/>
                </a:cubicBezTo>
                <a:cubicBezTo>
                  <a:pt x="94" y="27"/>
                  <a:pt x="94" y="32"/>
                  <a:pt x="92" y="37"/>
                </a:cubicBezTo>
                <a:cubicBezTo>
                  <a:pt x="91" y="39"/>
                  <a:pt x="90" y="40"/>
                  <a:pt x="89" y="41"/>
                </a:cubicBezTo>
                <a:cubicBezTo>
                  <a:pt x="99" y="42"/>
                  <a:pt x="99" y="42"/>
                  <a:pt x="99" y="42"/>
                </a:cubicBezTo>
                <a:cubicBezTo>
                  <a:pt x="99" y="42"/>
                  <a:pt x="98" y="33"/>
                  <a:pt x="98" y="31"/>
                </a:cubicBezTo>
                <a:cubicBezTo>
                  <a:pt x="102" y="2"/>
                  <a:pt x="65" y="2"/>
                  <a:pt x="69" y="31"/>
                </a:cubicBezTo>
                <a:cubicBezTo>
                  <a:pt x="69" y="33"/>
                  <a:pt x="68" y="42"/>
                  <a:pt x="68" y="42"/>
                </a:cubicBezTo>
                <a:cubicBezTo>
                  <a:pt x="78" y="41"/>
                  <a:pt x="78" y="41"/>
                  <a:pt x="78" y="41"/>
                </a:cubicBezTo>
                <a:cubicBezTo>
                  <a:pt x="77" y="40"/>
                  <a:pt x="76" y="39"/>
                  <a:pt x="75" y="37"/>
                </a:cubicBezTo>
                <a:cubicBezTo>
                  <a:pt x="74" y="33"/>
                  <a:pt x="73" y="29"/>
                  <a:pt x="74" y="26"/>
                </a:cubicBezTo>
                <a:cubicBezTo>
                  <a:pt x="74" y="26"/>
                  <a:pt x="74" y="26"/>
                  <a:pt x="74" y="26"/>
                </a:cubicBezTo>
                <a:close/>
                <a:moveTo>
                  <a:pt x="22" y="30"/>
                </a:moveTo>
                <a:cubicBezTo>
                  <a:pt x="21" y="25"/>
                  <a:pt x="21" y="21"/>
                  <a:pt x="23" y="15"/>
                </a:cubicBezTo>
                <a:cubicBezTo>
                  <a:pt x="29" y="11"/>
                  <a:pt x="37" y="17"/>
                  <a:pt x="47" y="15"/>
                </a:cubicBezTo>
                <a:cubicBezTo>
                  <a:pt x="48" y="20"/>
                  <a:pt x="48" y="24"/>
                  <a:pt x="48" y="31"/>
                </a:cubicBezTo>
                <a:cubicBezTo>
                  <a:pt x="48" y="31"/>
                  <a:pt x="52" y="27"/>
                  <a:pt x="52" y="25"/>
                </a:cubicBezTo>
                <a:cubicBezTo>
                  <a:pt x="53" y="22"/>
                  <a:pt x="52" y="10"/>
                  <a:pt x="50" y="8"/>
                </a:cubicBezTo>
                <a:cubicBezTo>
                  <a:pt x="45" y="0"/>
                  <a:pt x="26" y="0"/>
                  <a:pt x="20" y="6"/>
                </a:cubicBezTo>
                <a:cubicBezTo>
                  <a:pt x="18" y="8"/>
                  <a:pt x="16" y="25"/>
                  <a:pt x="18" y="27"/>
                </a:cubicBezTo>
                <a:cubicBezTo>
                  <a:pt x="20" y="29"/>
                  <a:pt x="22" y="30"/>
                  <a:pt x="22" y="3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141720"/>
            <a:ext cx="412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攀比，不虚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勤俭节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正消费观念学会记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制定合理的消费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会用合理的方式向父母提出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2" name="applaus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2009450144989363" descr=""/>
          <p:cNvPicPr/>
          <p:nvPr/>
        </p:nvPicPr>
        <p:blipFill>
          <a:blip r:embed="rId1"/>
          <a:stretch/>
        </p:blipFill>
        <p:spPr>
          <a:xfrm>
            <a:off x="3240" y="-25560"/>
            <a:ext cx="9142200" cy="6912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人的很多习惯都养成于青少年时期，从一个学生对待零用钱的态度，就能折射出将来当家理财的点点滴滴，让我们从小养成合理利用零用钱的好习惯，迈出人生理财的第一步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0904072159189a4cfa46880534" descr=""/>
          <p:cNvPicPr/>
          <p:nvPr/>
        </p:nvPicPr>
        <p:blipFill>
          <a:blip r:embed="rId1"/>
          <a:stretch/>
        </p:blipFill>
        <p:spPr>
          <a:xfrm>
            <a:off x="0" y="-98280"/>
            <a:ext cx="9177480" cy="6983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044720" y="1125360"/>
            <a:ext cx="6858000" cy="302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黑体"/>
              </a:rPr>
              <a:t>通过这次课程，大家有什么收获？</a:t>
            </a:r>
            <a:endParaRPr b="0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8000" y="407880"/>
            <a:ext cx="6626520" cy="597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64080" y="476280"/>
            <a:ext cx="182628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消费？理财？钱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qw" descr=""/>
          <p:cNvPicPr/>
          <p:nvPr/>
        </p:nvPicPr>
        <p:blipFill>
          <a:blip r:embed="rId1"/>
          <a:stretch/>
        </p:blipFill>
        <p:spPr>
          <a:xfrm>
            <a:off x="-104760" y="1440"/>
            <a:ext cx="9286920" cy="6958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360" y="4762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你们的手中都有一笔小小的零花钱，你们都是怎么花的呢？有的同学去商店买东西，只管要东西根本不看价钱，给多少零花钱用多少零花钱。而有的同学给了零花钱却从来不用，只喜欢数着玩。该如何利用手中的零花钱，从小培养同学们良好的理财观念呢？大家想不想一起来讨论这个问题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2345" descr=""/>
          <p:cNvPicPr/>
          <p:nvPr/>
        </p:nvPicPr>
        <p:blipFill>
          <a:blip r:embed="rId1"/>
          <a:stretch/>
        </p:blipFill>
        <p:spPr>
          <a:xfrm>
            <a:off x="31680" y="-2556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" descr=""/>
          <p:cNvPicPr/>
          <p:nvPr/>
        </p:nvPicPr>
        <p:blipFill>
          <a:blip r:embed="rId2"/>
          <a:stretch/>
        </p:blipFill>
        <p:spPr>
          <a:xfrm>
            <a:off x="7596360" y="3789360"/>
            <a:ext cx="36036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M" descr=""/>
          <p:cNvPicPr/>
          <p:nvPr/>
        </p:nvPicPr>
        <p:blipFill>
          <a:blip r:embed="rId3"/>
          <a:stretch/>
        </p:blipFill>
        <p:spPr>
          <a:xfrm>
            <a:off x="7956720" y="3933720"/>
            <a:ext cx="433080" cy="719280"/>
          </a:xfrm>
          <a:prstGeom prst="rect">
            <a:avLst/>
          </a:prstGeom>
          <a:ln w="0">
            <a:noFill/>
          </a:ln>
        </p:spPr>
      </p:pic>
      <p:pic>
        <p:nvPicPr>
          <p:cNvPr id="52" name="b" descr=""/>
          <p:cNvPicPr/>
          <p:nvPr/>
        </p:nvPicPr>
        <p:blipFill>
          <a:blip r:embed="rId4"/>
          <a:stretch/>
        </p:blipFill>
        <p:spPr>
          <a:xfrm>
            <a:off x="8388360" y="4076640"/>
            <a:ext cx="360360" cy="64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76200" y="600120"/>
            <a:ext cx="68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是怎么样使用零用钱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880000">
            <a:off x="396360" y="2276280"/>
            <a:ext cx="4319640" cy="2954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1200000">
            <a:off x="5436720" y="1844640"/>
            <a:ext cx="2506680" cy="28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调查问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04960" y="2747880"/>
            <a:ext cx="4572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836640"/>
            <a:ext cx="8567640" cy="58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你每个星期的零用钱平均有多少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(   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少于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5 ~ 10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11 ~ 30  (4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不固定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这些零用钱是哪里来的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(   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自己挣的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家长平时给的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压岁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你一般怎样使用这些零用钱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 (   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买零食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买书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买玩具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买文具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你每天都会花多少钱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(   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少于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5 ~ 10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10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以上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不花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父母对你拥有零用钱的态度是怎样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(   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反对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zh-CN" sz="2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不反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765000"/>
            <a:ext cx="9074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会把零用钱存起来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(  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处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存起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乱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有设计你自己的理财计划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(  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购物时你会注意商品的哪些问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(  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产日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质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产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价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觉得购物的比较与分析重要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(  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很重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太重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你要买价钱昂贵的物品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会向谁借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(   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己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19680000">
            <a:off x="7740360" y="5660640"/>
            <a:ext cx="1143000" cy="104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u" descr=""/>
          <p:cNvPicPr/>
          <p:nvPr/>
        </p:nvPicPr>
        <p:blipFill>
          <a:blip r:embed="rId1"/>
          <a:stretch/>
        </p:blipFill>
        <p:spPr>
          <a:xfrm>
            <a:off x="-33480" y="-25560"/>
            <a:ext cx="9212400" cy="69105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340000" y="1557360"/>
            <a:ext cx="641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通过调查表我们可以看出同学们的零用钱多少的情况，大部分同学清楚自己零用钱的主要用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购买学习用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零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其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还有少部分同学对零用钱用在哪里了不清楚，没有记账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3240" y="469800"/>
            <a:ext cx="25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789" descr=""/>
          <p:cNvPicPr/>
          <p:nvPr/>
        </p:nvPicPr>
        <p:blipFill>
          <a:blip r:embed="rId1"/>
          <a:stretch/>
        </p:blipFill>
        <p:spPr>
          <a:xfrm>
            <a:off x="34920" y="-603360"/>
            <a:ext cx="9213840" cy="7675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1727280" cy="173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189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问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909720"/>
            <a:ext cx="59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你们的零用钱是从哪里来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220680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答案是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父母或者长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28880" y="3362400"/>
            <a:ext cx="18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问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40766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，爸爸妈妈的钱又是从哪里来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789456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987640" y="1917360"/>
            <a:ext cx="532944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妈妈给我们的零用钱都是他们辛辛苦苦赚来的，来之不易，所以我们要珍惜这些钱，用的时候我们就要注意，不能浪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0" descr=""/>
          <p:cNvPicPr/>
          <p:nvPr/>
        </p:nvPicPr>
        <p:blipFill>
          <a:blip r:embed="rId2"/>
          <a:stretch/>
        </p:blipFill>
        <p:spPr>
          <a:xfrm>
            <a:off x="755640" y="2854440"/>
            <a:ext cx="2327400" cy="288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90720" y="90972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明白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01-03T05:08:28Z</dcterms:created>
  <dc:creator>于粟</dc:creator>
  <dc:description/>
  <dc:language>en-US</dc:language>
  <cp:lastModifiedBy>何燕君</cp:lastModifiedBy>
  <cp:lastPrinted>1900-01-03T05:08:28Z</cp:lastPrinted>
  <dcterms:modified xsi:type="dcterms:W3CDTF">2015-03-07T11:34:53Z</dcterms:modified>
  <cp:revision>6</cp:revision>
  <dc:subject/>
  <dc:title>题目：合理支配你的零用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